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BE98-AD2D-424E-8A2C-76DF76069412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бу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4413-4861-4451-9923-F6FF3CC4F66E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Bookman Old Style"/>
              </a:rPr>
              <a:t>УМК «Классическая начальная шко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авторами учебников являются известные методисты и учёные, оказывающие серьёзное влияние на становление современного начального образования (Т.Г. Рамзаева, О.В. Джежелей, Л.И. Тикунова, Э.И. Александрова, В.С.Кузин и друг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идактическую основу учебных пособий составляют классические принципы дид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собенностью является органическое соединение традиционной методики с последними достижениями современной психологии и новейшими подходами к решению методических проблем, а также опора на педагогику сотрудни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авторы делают акцент на систему заданий проблемно-поисков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се учебники нацелены на развитие самостоятельности и в добывании знаний, и в оценке результатов соб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книги содержат не только индивидуальные, но и коллективные задания, которые учат детей взаимодействовать друг с другом, отстаивать свою позицию, слушать и понимать товари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спользование тетрадей на печатной основе позволяет учителю регулировать нагруз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пыт практической деятельности способствует формированию теоретических понятий, которые составляют фундамент успешного обучения не только в начальных классах, но и в дальнейш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2F8B-7155-403D-ADFD-5E50F0B85166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УМК «Школа 2100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(под ред. А.А. Леонтьева</a:t>
            </a:r>
            <a:r>
              <a:rPr b="1" lang="ru-RU" sz="2400" spc="-1" strike="noStrike">
                <a:solidFill>
                  <a:srgbClr val="0066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росто комплект учебников, а система, котор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полагает развивающее личностно ориентированное образование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лавное преимущество учебно-методического комплекта заключается в глубокой преемственности и непрерывности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программы построены с учетом психологической специфики возр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и учатся действовать самостоятельно, правила и выводы не даются в готовом ви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а программа направлена на развитие логического мышления, речи, воображения, памя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арактерной особенностью этой образовательной программы является принцип минимакс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ый материал предлагается ученикам по максимуму, а учащийся должен усвоить материал по минимуму стандарта. Таким образом, у каждого ребенка есть возможность взять столько, сколько он мож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062B-64AC-4B26-BBCA-F27A65ED3572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Bookman Old Style"/>
              </a:rPr>
              <a:t>УМК «Перспектива</a:t>
            </a:r>
            <a:r>
              <a:rPr b="1" lang="ru-RU" sz="2800" spc="-1" strike="noStrike">
                <a:solidFill>
                  <a:srgbClr val="cc6600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 комплекта одобрены и рекомендованы РАН-РАО, включены в серию «Академический школьный учебн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реализована новая технология конструирования учебников комплекта, котора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лучшает и облегчает преподавание и усвоение предметного материала (единые методология, дизайн и система навигаци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зволяет родителям стать активными участникам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предполагает дифференцированные задания для учеников с разным уровнем подгото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школьных предметов раскрывается в культурно-историческом аспекте, что обеспечивает всесторонне развитие младшего шк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етодический аппарат книг тщательно продуман, что позволяет использовать этот комплект для индивидуальной работы родителей с ребенком до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гровой и занимательный материалы пособ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уют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вокласс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BFF5-28BA-4B28-861F-2C47A4E8AB76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Bookman Old Style"/>
              </a:rPr>
              <a:t>УМК по математике Б.П.Гейдм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Bookman Old Style"/>
              </a:rPr>
              <a:t>(издательство «Русское слово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 всем параметрам соответствуют требованиям подготовки учащихся на конец обучения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дачная структура, прекрасная проработка каждого уро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истемность подачи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азноуровневые задания, обеспечивающие комфорт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ля всех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учителю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нет необходимости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дбирать материал для устного счёта, т.к. учеб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насыщен  разнообразными интересными зад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исовать и чертить на доске, т.к. все чертеж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хемы, рисунки и т.д. представлены в учеб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уче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меет возможность работать в тетради на печат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 чёткой формулировкой все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одержание задач близко и понятно детям, т.к. построено на основе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род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урочное представление материала даёт возможность отслед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шаговость проходимого материала (н-р, во время болезни ребёнка родители легко могут ему помочь в освоении материа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8414-B6DB-418C-9503-3EA6833F5017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Авторская программ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курса «Литературное чтени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(издательство «Русское слово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Г.С.Меркин, Б.Г.Меркин, С.А.Болот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рассчитана на четыре года обучения младших школьников с 1 по 4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для каждого года состоит из следующих разделов: «Круг произведений для чтения», «Читательские умения», «Литературоведческие понятия». Заканчивается программа разделом «Основные требования к знаниям, умениям и навыкам учащихся, оканчивающих начальную школ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тличительная особенность - введение в круг чтения младших школьников целостных литературных текстов, а также фрагментов отдельных эпических произ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вязь с другими искусствами, работа с иллюстрациями, фотографиями, выполнение рисунков и иллюстраций к эпизодам произведения, художественное произведение – кино – мультипл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формирование личности, воспитание чувства любви, внимания, уважения к членам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для 1–4 классов ориентирует учителя начальной школы на выполнение задач литературного образования и эстетического развития младших школьников в определенной системе, все элементы которой взаимосвязаны, логически взаимообусловлены и достаточно жестко структурир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является звеном в системе общего среднего филологического образования учащихся с первого по девятый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чебники для 2,3,4 классов планируются к выпуску в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половине 2009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4849-F3B9-484C-BE1B-DDAF294D2FF1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66ff"/>
                </a:solidFill>
                <a:uFillTx/>
                <a:latin typeface="Bookman Old Style"/>
              </a:rPr>
              <a:t>ТРАДИЦИОННА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Начальная школ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XXI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Гармо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Классическая нача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ная нача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ланета зна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AAAA-EF29-4AFA-991C-F7B32B966E07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Bookman Old Style"/>
              </a:rPr>
              <a:t>Развивающее обу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Bookman Old Style"/>
              </a:rPr>
              <a:t>Дидактическая система Л.В. Зан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идактический принцип – быстрое освоение материала, высокий уровень тру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едущая роль принадлежит теоретическим зна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своенный материал закрепляется практическими      зад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елается ставка на самостоятельность учащегося, его творческое постижение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стижение понятий происходит в понимании системных взаимосвяз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21E6-F10F-41FA-9DE0-AF9FDCC60EF1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Bookman Old Style"/>
              </a:rPr>
              <a:t>Развивающая система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Bookman Old Style"/>
              </a:rPr>
              <a:t>Д.Б. Эльконина – В.В. Давыдо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амое яркое отличие – научная проработка проблемы безотметоч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сновной принцип – научить детей получать знания, искать их самостоятельно, а не заучивать школьные ис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елается упор не на результат – усвоенные знания, а на способы их п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большое значение придаётся отработке коммуникативных навыков и работе в команде (паре, групп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FE51-C287-4873-8A5F-3CAF81BDDC43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Традиционная </a:t>
            </a:r>
            <a:br>
              <a:rPr sz="4000"/>
            </a:b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система 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хватывает все учебные предм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ключает завершённые линии по всем предметам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комплек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комендованы МО и науки Р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вечают требованиям действующего Государственного стандарта начального общего образ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ют преемственность с дошкольным и основным общим образован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является гибким инструментом с полным методическим обеспечен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итывает изменения, предусмотренные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тандартом второго покол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личностно- и ценностно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иентиров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ет успешность ребёнка в школе и за её предела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актикоориентиров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едусматривает формирование УУД (универсальных учебных действий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правлен на развитие умения детей общать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держивает совместную деятельность школы и семь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A272-C240-4986-BAE7-19B76A05187E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Bookman Old Style"/>
              </a:rPr>
              <a:t>УМК «Гармо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ает в себя учебники и учебные пособия по основным предметам начального образования (с 2009 года планируется дополнить такими дисциплинами как английский язык, изобразительное искусство и музы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рекомендованы МО и науки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ые задачи, решаемые  авторами комплек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способов организации учебной деятельности младших школьни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комфортных условий для развития ребёнка в процессе усвоения зна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ие учебных программ требованиям начального образовательного станд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МК направлен н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приёмов умственной деятельности (анализ, синтез, сравнение, аналогия и т.д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амостоятельную деятельность учащихся в усвоении содерж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ктивное включение в познавательную деятельность приёмов наблюдения, выбора, преобразования и конструир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ору на опыт ребё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цепция УМК соотносится с основными идеями развивающего обучения (с системой Л.В.Занков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0180-0453-4E8C-AE7C-3F9EFBC431B2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УМК «Начальная школа </a:t>
            </a:r>
            <a:r>
              <a:rPr b="1" lang="en-US" sz="1800" spc="-1" strike="noStrike">
                <a:solidFill>
                  <a:srgbClr val="ff3399"/>
                </a:solidFill>
                <a:latin typeface="Bookman Old Style"/>
              </a:rPr>
              <a:t>XXI</a:t>
            </a: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 ве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(под ред. Н.Ф.Виноградов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МК включает завершённые линии по основным предметам нач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ерьёзное внимание уделено проблеме формирования учебной деятельности младшего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 комплекте есть параллельная программа «Учебная деятель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лизует основные идеи системы  развивающе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направлен на обеспечение «мягкой» адаптации детей к новым для них условиям школьно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комплект реализует право ребенка на свою индивидуальность: дети поставлены в условия, когда могут самостоятельно добывать знания, применять их, размышлять, фантазировать, играть (предусмотрены специальные тетради «Учимся думать и фантазировать», «Учимся познавать окружающий мир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C278-114B-4DD7-BECF-695BB1E3D530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УМК «Планета знани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состоит из  учебников, рабочих тетрадей, дидактических и методических пособий по основным предметам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ржание предоставляет возможность учителю использовать разные формы и методы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елью является создание образовательного пространства с разнообразием  видо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имеют единую систему заданий и единую маркировку, которая облегчает работу и школьника, и учи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полностью реализует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организации внеурочной деятельности предусмотрены специальные развороты проектн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уктурирование учебного материала обеспечива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алансированность репродуктивной,  исследовательск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чностно ориентированное взаимодейств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зрослых с деть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A884-850A-4055-855F-520FB32F4100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УМК 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основе создания комплекта учебников лежит Концепция, которая появилась в результате обобщения опыта комплектов  учебников  «Школа XXI века», «Гармония», а также комплектов  учебников по развивающим системам обучения Л.В. Занкова, Д.Б. Эльконина—В.В. Давыд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ая идея УМК— оптимальное развитие каждого ребенка на основе педагогической поддержки его индивидуа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ринципы концепц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ерывного общего развития каждого ребен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целостности картины ми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учета индивидуальных возможностей и способностей школьник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ы прочности и нагляд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охраны и укрепления психического и физического здоровья дет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личительные  особенности УМ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ние единой системы условных обозначений во всем УМК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стему перекрестных взаимных ссылок между учебникам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МК формирует умение поиска, передачи и хранения информации. В учебниках комплекта присутствуют ссылки на интернет-сайты, специально разработанные для работы с младшими школьник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зволяет школьнику перейти в среднюю школу с большим багажом всех необходимых знаний для дальнейшего обу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BB54-4808-455E-A3D9-1D3BFEB68DDC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CD38-FE10-48C2-9BA3-00C14A77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E633-CFE0-4822-A109-4738AEF3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726C-09BD-4260-ABF4-90F40A40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7B4-FF35-492D-B992-BD2A4BF9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878-1F5D-4E6F-BE9C-78A28924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6DD-C267-420C-ADF4-701F43B4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6D2-9582-43BC-B255-BD01B530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F965-74AA-46F9-94E9-FE30565E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67A-2BC6-45C2-BF02-56701EE7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DA9-05FC-4861-A1D8-DAC44CDF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70DA-A101-4BCA-AC8C-D072029F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D80-0D35-4F50-9F63-6C9407DB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FFE7-7F6E-4FA8-BD64-4EE605FDB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264360" cy="280836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50" name="Oval 6"/>
          <p:cNvSpPr/>
          <p:nvPr/>
        </p:nvSpPr>
        <p:spPr>
          <a:xfrm>
            <a:off x="324000" y="2997360"/>
            <a:ext cx="8351640" cy="3671640"/>
          </a:xfrm>
          <a:prstGeom prst="ellipse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Системы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обучения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в начальной школе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df98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Bookman Old Style"/>
              </a:rPr>
              <a:t>УМК «Классическая нача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ами учебников являются известные методисты и учёные, оказывающие серьёзное влияние на становление современного начального образования (Т.Г. Рамзаева, О.В. Джежелей, Л.И. Тикунова, Э.И. Александрова, В.С.Кузин и друг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идактическую основу учебных пособий составляют классические принципы дид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обенностью является органическое соединение традиционной методики с последними достижениями современной психологии и новейшими подходами к решению методических проблем, а также опора на педагогику сотрудн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ы делают акцент на систему заданий проблемно-поисков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нацелены на развитие самостоятельности и в добывании знаний, и в оценке результатов соб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ниги содержат не только индивидуальные, но и коллективные задания, которые учат детей взаимодействовать друг с другом, отстаивать свою позицию, слушать и понимать товари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спользование тетрадей на печатной основе позволяет учителю регулировать нагру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ыт практической деятельности способствует формированию теоретических понятий, которые составляют фундамент успешного обучения не только в начальных классах, но и в дальнейш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j0303377[1]"/>
          <p:cNvPicPr/>
          <p:nvPr/>
        </p:nvPicPr>
        <p:blipFill>
          <a:blip r:embed="rId1"/>
          <a:stretch/>
        </p:blipFill>
        <p:spPr>
          <a:xfrm>
            <a:off x="7093080" y="5516640"/>
            <a:ext cx="1638000" cy="13413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6da3a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УМК 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(под ред. А.А. Леонтьева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росто комплект учебников, а система, кото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полагает развивающее личностно ориентированное образование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лавное преимущество учебно-методического комплекта заключается в глубокой преемственности и непрерывно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программы построены с учетом психологической специфики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и учатся действовать самостоятельно, правила и выводы не даются в готовом ви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а программа направлена на развитие логического мышления, речи, воображения, памя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арактерной особенностью этой образовательной программы является принцип минимакс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ый материал предлагается ученикам по максимуму, а учащийся должен усвоить материал по минимуму стандарта. Таким образом, у каждого ребенка есть возможность взять столько, сколько он мо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0234128[1]"/>
          <p:cNvPicPr/>
          <p:nvPr/>
        </p:nvPicPr>
        <p:blipFill>
          <a:blip r:embed="rId1"/>
          <a:stretch/>
        </p:blipFill>
        <p:spPr>
          <a:xfrm>
            <a:off x="7596360" y="0"/>
            <a:ext cx="1690560" cy="16286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f5996"/>
          </a:solidFill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Bookman Old Style"/>
              </a:rPr>
              <a:t>УМК «Перспектива</a:t>
            </a:r>
            <a:r>
              <a:rPr b="1" lang="ru-RU" sz="2800" spc="-1" strike="noStrike">
                <a:solidFill>
                  <a:srgbClr val="cc6600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 комплекта одобрены и рекомендованы РАН-РАО, включены в серию «Академический школьный учеб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реализована новая технология конструирования учебников комплекта, котор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лучшает и облегчает преподавание и усвоение предметного материала (единые методология, дизайн и система навигац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зволяет родителям стать активными участникам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предполагает дифференцированные задания для учеников с разным уровнем под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школьных предметов раскрывается в культурно-историческом аспекте, что обеспечивает всесторонне развитие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етодический аппарат книг тщательно продуман, что позволяет использовать этот комплект для индивидуальной работы родителей с ребенком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гровой и занимательный материалы пособ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уют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вокласс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398139[1]"/>
          <p:cNvPicPr/>
          <p:nvPr/>
        </p:nvPicPr>
        <p:blipFill>
          <a:blip r:embed="rId1"/>
          <a:stretch/>
        </p:blipFill>
        <p:spPr>
          <a:xfrm>
            <a:off x="6588000" y="5013360"/>
            <a:ext cx="2376720" cy="18446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877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УМК по математике Б.П.Гейдм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(издательство «Русское слово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 всем параметрам соответствуют требованиям подготовки учащихся на конец обучения в начально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дачная структура, прекрасная проработка каждого уро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истемность подачи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ноуровневые задания, обеспечивающие комфор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ля всех участников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ителю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нет необходимост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дбирать материал для устного счёта, т.к. учеб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сыщен  разнообразными интересными зад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исовать и чертить на доске, т.к. все черте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хемы, рисунки и т.д. представлены в учеб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меет возможность работать в тетради на печатной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 чёткой формулировкой все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задач близко и понятно детям, т.к. построено на основе ска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урочное представление материала даёт возможность отсле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шаговость проходимого материала (н-р, во время болезни ребёнка родители легко могут ему помочь в освоении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763640" y="4365720"/>
            <a:ext cx="201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771640" y="3789360"/>
            <a:ext cx="46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6" name="Picture 11" descr="j0398305[1]"/>
          <p:cNvPicPr/>
          <p:nvPr/>
        </p:nvPicPr>
        <p:blipFill>
          <a:blip r:embed="rId1"/>
          <a:stretch/>
        </p:blipFill>
        <p:spPr>
          <a:xfrm>
            <a:off x="7380360" y="1628640"/>
            <a:ext cx="1763640" cy="24768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cecdb"/>
          </a:solidFill>
          <a:ln w="9360">
            <a:solidFill>
              <a:srgbClr val="cc00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Авторск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курса «Литературное чт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(издательство «Русское слово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Г.С.Меркин, Б.Г.Меркин, С.А.Боло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рассчитана на четыре года обучения младших школьников с 1 по 4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каждого года состоит из следующих разделов: «Круг произведений для чтения», «Читательские умения», «Литературоведческие понятия». Заканчивается программа разделом «Основные требования к знаниям, умениям и навыкам учащихся, оканчивающих начальную школ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личительная особенность - введение в круг чтения младших школьников целостных литературных текстов, а также фрагментов отдельных эпических произве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вязь с другими искусствами, работа с иллюстрациями, фотографиями, выполнение рисунков и иллюстраций к эпизодам произведения, художественное произведение – кино – мультиплик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формирование личности, воспитание чувства любви, внимания, уважения к членам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1–4 классов ориентирует учителя начальной школы на выполнение задач литературного образования и эстетического развития младших школьников в определенной системе, все элементы которой взаимосвязаны, логически взаимообусловлены и достаточно жестко структуриров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является звеном в системе общего среднего филологического образования учащихся с первого по девятый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для 2,3,4 классов планируются к выпуску в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половине 2009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0280405[1]"/>
          <p:cNvPicPr/>
          <p:nvPr/>
        </p:nvPicPr>
        <p:blipFill>
          <a:blip r:embed="rId1"/>
          <a:stretch/>
        </p:blipFill>
        <p:spPr>
          <a:xfrm>
            <a:off x="0" y="0"/>
            <a:ext cx="1619280" cy="11253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9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3200" spc="-1" strike="noStrike" u="sng">
              <a:solidFill>
                <a:srgbClr val="333399"/>
              </a:solidFill>
              <a:uFillTx/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2491920"/>
            <a:ext cx="5003640" cy="4365720"/>
          </a:xfrm>
          <a:prstGeom prst="rect">
            <a:avLst/>
          </a:prstGeom>
          <a:solidFill>
            <a:srgbClr val="ff6600"/>
          </a:solidFill>
          <a:ln w="93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ff"/>
                </a:solidFill>
                <a:uFillTx/>
                <a:latin typeface="Bookman Old Style"/>
              </a:rPr>
              <a:t>ТРАДИ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Начальная школ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XXI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Гармо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Классическ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ланета зна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003640" y="2492280"/>
            <a:ext cx="4140360" cy="4365720"/>
          </a:xfrm>
          <a:prstGeom prst="rect">
            <a:avLst/>
          </a:prstGeom>
          <a:solidFill>
            <a:srgbClr val="ffff66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ff"/>
                </a:solidFill>
                <a:uFillTx/>
                <a:latin typeface="Bookman Old Style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идактическая система Л.В. Занков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.Б. Эльконина-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.В. Давыдов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5" name="Line 7"/>
          <p:cNvSpPr/>
          <p:nvPr/>
        </p:nvSpPr>
        <p:spPr>
          <a:xfrm flipH="1">
            <a:off x="3276360" y="1916280"/>
            <a:ext cx="1150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Line 8"/>
          <p:cNvSpPr/>
          <p:nvPr/>
        </p:nvSpPr>
        <p:spPr>
          <a:xfrm>
            <a:off x="4788000" y="191628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Oval 9"/>
          <p:cNvSpPr/>
          <p:nvPr/>
        </p:nvSpPr>
        <p:spPr>
          <a:xfrm>
            <a:off x="1187280" y="0"/>
            <a:ext cx="6769440" cy="2060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Системы</a:t>
            </a:r>
            <a:br>
              <a:rPr sz="3200"/>
            </a:b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обучения </a:t>
            </a:r>
            <a:br>
              <a:rPr sz="3200"/>
            </a:b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в начальной школе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Развивающее обу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идактическая система Л.В. Зан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идактический принцип – быстрое освоение материала, высокий уровень тру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едущая роль принадлежит теоретическим зн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усвоенный материал закрепляется практическими      зад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ставка на самостоятельность учащегося, его творческое постиж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остижение понятий происходит в понимании системных взаимосвяз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7486560" y="3141720"/>
            <a:ext cx="1657440" cy="1847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Развивающая система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.Б. Эльконина – В.В. Давыд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амое яркое отличие – научная проработка проблемы безотметоч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основной принцип – научить детей получать знания, искать их самостоятельно, а не заучивать школьные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упор не на результат – усвоенные знания, а на способы их пост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ольшое значение придаётся отработке коммуникативных навыков и работе в команде (паре, групп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0396700[1]"/>
          <p:cNvPicPr/>
          <p:nvPr/>
        </p:nvPicPr>
        <p:blipFill>
          <a:blip r:embed="rId1"/>
          <a:stretch/>
        </p:blipFill>
        <p:spPr>
          <a:xfrm>
            <a:off x="324000" y="189000"/>
            <a:ext cx="1485720" cy="1193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Традиционная </a:t>
            </a:r>
            <a:br>
              <a:rPr sz="4000"/>
            </a:b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система 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хватывает все учебные предм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ключает завершённые линии по всем предметам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компл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комендованы МО и наук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вечают требованиям действующего Государственного стандарта начального общего образ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ют преемственность с дошкольным и основным общим образов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является гибким инструментом с полным методическим обеспеч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итывает изменения, предусмотренные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тандартом второго поко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личностно- и ценностно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ет успешность ребёнка в школе и за её предел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актико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едусматривает формирование УУД (универсальных учебных действи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правлен на развитие умения детей общать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держивает совместную деятельность школы и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j0232128[1]"/>
          <p:cNvPicPr/>
          <p:nvPr/>
        </p:nvPicPr>
        <p:blipFill>
          <a:blip r:embed="rId1"/>
          <a:stretch/>
        </p:blipFill>
        <p:spPr>
          <a:xfrm>
            <a:off x="7429680" y="5373720"/>
            <a:ext cx="1714320" cy="12571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Bookman Old Style"/>
              </a:rPr>
              <a:t>УМК «Гармо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ает в себя учебники и учебные пособия по основным предметам начального образования (с 2009 года планируется дополнить такими дисциплинами как английский язык, изобразительное искусство и музы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рекомендованы МО и наук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ые задачи, решаемые  авторами компл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способов организации учебной деятельности младших школь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комфортных условий для развития ребёнка в процессе усвоения зн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ие учебных программ требованиям начального образовательного станд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МК направлен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приёмов умственной деятельности (анализ, синтез, сравнение, аналогия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амостоятельную деятельность учащихся в усвоении содерж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ктивное включение в познавательную деятельность приёмов наблюдения, выбора, преобразования и констру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ору на опыт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цепция УМК соотносится с основными идеями развивающего обучения (с системой Л.В.Зан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j0398159[1]"/>
          <p:cNvPicPr/>
          <p:nvPr/>
        </p:nvPicPr>
        <p:blipFill>
          <a:blip r:embed="rId1"/>
          <a:stretch/>
        </p:blipFill>
        <p:spPr>
          <a:xfrm>
            <a:off x="7632720" y="16286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c1bb"/>
          </a:solidFill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УМК «Начальная школа </a:t>
            </a:r>
            <a:r>
              <a:rPr b="1" lang="en-US" sz="2800" spc="-1" strike="noStrike">
                <a:solidFill>
                  <a:srgbClr val="ff3399"/>
                </a:solidFill>
                <a:latin typeface="Bookman Old Style"/>
              </a:rPr>
              <a:t>XXI</a:t>
            </a: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 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(под ред. Н.Ф.Виноградов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МК включает завершённые линии по основным предметам нач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ерьёзное внимание уделено проблеме формирования учебной деятельности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есть параллельная программа «Учебная деятель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еализует основные идеи системы  развивающе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правлен на обеспечение «мягкой» адаптации детей к новым для них условиям школьно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реализует право ребенка на свою индивидуальность: дети поставлены в условия, когда могут самостоятельно добывать знания, применять их, размышлять, фантазировать, играть (предусмотрены специальные тетради «Учимся думать и фантазировать», «Учимся познавать окружающий мир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j0417332[1]"/>
          <p:cNvPicPr/>
          <p:nvPr/>
        </p:nvPicPr>
        <p:blipFill>
          <a:blip r:embed="rId1"/>
          <a:stretch/>
        </p:blipFill>
        <p:spPr>
          <a:xfrm>
            <a:off x="6443640" y="5003640"/>
            <a:ext cx="2209680" cy="18543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6d3f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УМК «Планета зна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состоит из  учебников, рабочих тетрадей, дидактических и методических пособий по основным предметам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ржание предоставляет возможность учителю использовать разные формы и метод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елью является создание образовательного пространства с разнообразием  видо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имеют единую систему заданий и единую маркировку, которая облегчает работу и школьника, и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полностью реализует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организации внеурочной деятельности предусмотрены специальные развороты проектн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уктурирование учебного материала обеспеч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алансированность репродуктивной,  исследовательск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чностно ориентированное взаимо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зрослых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j0232909[1]"/>
          <p:cNvPicPr/>
          <p:nvPr/>
        </p:nvPicPr>
        <p:blipFill>
          <a:blip r:embed="rId1"/>
          <a:stretch/>
        </p:blipFill>
        <p:spPr>
          <a:xfrm>
            <a:off x="7740720" y="5084640"/>
            <a:ext cx="1403280" cy="17733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5c6fa"/>
          </a:solidFill>
          <a:ln w="9360">
            <a:solidFill>
              <a:srgbClr val="66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УМК 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основе создания комплекта учебников лежит Концепция, которая появилась в результате обобщения опыта комплектов  учебников  «Школа XXI века», «Гармония», а также комплектов  учебников по развивающим системам обучения Л.В. Занкова, Д.Б. Эльконина—В.В. Давыд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ая идея УМК— оптимальное развитие каждого ребенка на основе педагогической поддержки его индивиду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ринципы концеп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ерывного общего развития каждого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целостности картины ми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учета индивидуальных возможностей и способностей школь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ы прочности и нагляд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охраны и укрепления психического и физического здоровья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личительные  особенности УМ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ние единой системы условных обозначений во всем УМ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стему перекрестных взаимных ссылок между учебни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МК формирует умение поиска, передачи и хранения информации. В учебниках комплекта присутствуют ссылки на интернет-сайты, специально разработанные для работы с младшими школь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зволяет школьнику перейти в среднюю школу с большим багажом всех необходимых знаний для дальнейшего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j0343361[1]"/>
          <p:cNvPicPr/>
          <p:nvPr/>
        </p:nvPicPr>
        <p:blipFill>
          <a:blip r:embed="rId1"/>
          <a:stretch/>
        </p:blipFill>
        <p:spPr>
          <a:xfrm>
            <a:off x="6732720" y="5229360"/>
            <a:ext cx="1942920" cy="162864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6:02:49Z</dcterms:created>
  <dc:creator>Nataly</dc:creator>
  <dc:description/>
  <dc:language>en-US</dc:language>
  <cp:lastModifiedBy>LEGION</cp:lastModifiedBy>
  <dcterms:modified xsi:type="dcterms:W3CDTF">2015-01-27T12:00:55Z</dcterms:modified>
  <cp:revision>7</cp:revision>
  <dc:subject/>
  <dc:title>Системы  обучения   в начальной школе</dc:title>
</cp:coreProperties>
</file>